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8019-E1B2-48A5-A7D0-6E073FA7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8F8F-99BB-406E-9BC0-07801D4A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E0FC-AAC4-4B3F-A5EF-DCF10D603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AA5E-1251-4ACB-952A-10904A6F3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FABA-7FEB-4301-8FA0-10569685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F249-0BD0-409C-AFB6-1C4DEAB5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2076-E851-4220-883A-44957DE5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04E2-349A-48FD-BC67-7E9B0FFE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A7FA-7B40-4E08-B52D-B2E4F68A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9152-B65F-4DDE-8870-BB6C291B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5E78-B8EF-44A7-A7E5-28F3A82A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E3BE-669F-4179-8C4B-958D71EA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28F4-8C6E-4EC8-9784-158CB495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E224-07B5-4C52-B8FF-DCD3465E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DA43-0765-4099-A2A2-740258FD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4CD0-C925-4ABB-9A90-454D41CED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815B-A5E5-49A0-8C9B-4813F4453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34660-6A4A-4AE6-87B8-1F3DDDACB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BCB17-82F7-4223-8FC6-A718034E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F7B86-94EA-4340-AF0A-83A534A4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F6F0F-4950-4771-944D-EF44E52A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94403-8630-49DE-B08E-25486B3C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62DA-B512-4AD7-A73A-E9F19922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DE2A0-8606-458E-831B-33BAF2D3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0A01C-C0BC-4D7C-996A-2D9DE3B3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C0DC9-AAD7-410B-9FA7-0A25C5B3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A2E8D-3E6B-40A2-B4E5-FBB66CB1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C30A9-EAE9-445B-A611-F5962EB8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B9174-E5C1-47AC-A354-326388D74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2D7FB-CED4-4450-BF33-2CA6E3E1B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2627-8DE7-4681-9035-9E141A84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1B41-00ED-4E60-8E0C-76C2407E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1030-23FE-4011-AB45-4517B8C1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2D92-D798-4808-9ACB-E75B5089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E243-91E7-455C-976B-7A45992A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197B-C793-4196-B868-0B62C7B5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71DA3A-7D7A-4908-AFDD-255302F12F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8E4095-1BC2-461A-9C3D-FF088BED65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165240" y="7873920"/>
            <a:ext cx="5486400" cy="1295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3" descr=""/>
          <p:cNvPicPr/>
          <p:nvPr/>
        </p:nvPicPr>
        <p:blipFill>
          <a:blip r:embed="rId3"/>
          <a:stretch/>
        </p:blipFill>
        <p:spPr>
          <a:xfrm>
            <a:off x="317520" y="8026560"/>
            <a:ext cx="5486400" cy="12952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3" descr=""/>
          <p:cNvPicPr/>
          <p:nvPr/>
        </p:nvPicPr>
        <p:blipFill>
          <a:blip r:embed="rId4"/>
          <a:stretch/>
        </p:blipFill>
        <p:spPr>
          <a:xfrm>
            <a:off x="469800" y="8178840"/>
            <a:ext cx="5486400" cy="12952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3" descr=""/>
          <p:cNvPicPr/>
          <p:nvPr/>
        </p:nvPicPr>
        <p:blipFill>
          <a:blip r:embed="rId5"/>
          <a:stretch/>
        </p:blipFill>
        <p:spPr>
          <a:xfrm>
            <a:off x="622440" y="8331120"/>
            <a:ext cx="5486400" cy="129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165240" y="7873920"/>
            <a:ext cx="5486400" cy="1295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3"/>
          <a:stretch/>
        </p:blipFill>
        <p:spPr>
          <a:xfrm>
            <a:off x="317520" y="8026560"/>
            <a:ext cx="5486400" cy="1295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4"/>
          <a:stretch/>
        </p:blipFill>
        <p:spPr>
          <a:xfrm>
            <a:off x="469800" y="8178840"/>
            <a:ext cx="5486400" cy="1295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5"/>
          <a:stretch/>
        </p:blipFill>
        <p:spPr>
          <a:xfrm>
            <a:off x="622440" y="8331120"/>
            <a:ext cx="5486400" cy="129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SummerMeeting Logo-1-1.png"/>
          <p:cNvPicPr/>
          <p:nvPr/>
        </p:nvPicPr>
        <p:blipFill>
          <a:blip r:embed="rId6"/>
          <a:stretch/>
        </p:blipFill>
        <p:spPr>
          <a:xfrm>
            <a:off x="7520040" y="6121440"/>
            <a:ext cx="1166760" cy="584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7"/>
          <a:stretch/>
        </p:blipFill>
        <p:spPr>
          <a:xfrm>
            <a:off x="457200" y="6113520"/>
            <a:ext cx="2666880" cy="630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A0FE2E-B83D-4D38-8180-7BD62594C2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8E8F57-0F7B-4220-A64C-D875ABC77D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165240" y="7873920"/>
            <a:ext cx="5486400" cy="129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3"/>
          <a:stretch/>
        </p:blipFill>
        <p:spPr>
          <a:xfrm>
            <a:off x="317520" y="8026560"/>
            <a:ext cx="5486400" cy="1295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4"/>
          <a:stretch/>
        </p:blipFill>
        <p:spPr>
          <a:xfrm>
            <a:off x="469800" y="8178840"/>
            <a:ext cx="5486400" cy="1295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5"/>
          <a:stretch/>
        </p:blipFill>
        <p:spPr>
          <a:xfrm>
            <a:off x="622440" y="8331120"/>
            <a:ext cx="5486400" cy="1295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SummerMeeting Logo-1-1.png"/>
          <p:cNvPicPr/>
          <p:nvPr/>
        </p:nvPicPr>
        <p:blipFill>
          <a:blip r:embed="rId6"/>
          <a:stretch/>
        </p:blipFill>
        <p:spPr>
          <a:xfrm>
            <a:off x="7520040" y="6121440"/>
            <a:ext cx="1166760" cy="584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7"/>
          <a:stretch/>
        </p:blipFill>
        <p:spPr>
          <a:xfrm>
            <a:off x="457200" y="6091200"/>
            <a:ext cx="2666880" cy="630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88F499-FA4E-4FE4-A599-6A846F5F43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77FACD-45B6-4D11-9C76-EEDA342A85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SummerMeeting Logo-1-1.png"/>
          <p:cNvPicPr/>
          <p:nvPr/>
        </p:nvPicPr>
        <p:blipFill>
          <a:blip r:embed="rId1"/>
          <a:stretch/>
        </p:blipFill>
        <p:spPr>
          <a:xfrm>
            <a:off x="254160" y="942840"/>
            <a:ext cx="8723160" cy="43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s t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l organiz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ndation staff and volunte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 fell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3" descr="IMG_20100823_172650.jpg"/>
          <p:cNvPicPr/>
          <p:nvPr/>
        </p:nvPicPr>
        <p:blipFill>
          <a:blip r:embed="rId1"/>
          <a:stretch/>
        </p:blipFill>
        <p:spPr>
          <a:xfrm>
            <a:off x="4194000" y="1600200"/>
            <a:ext cx="3888000" cy="2903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2011-07-12_18-25-15_997v2.jpg"/>
          <p:cNvPicPr/>
          <p:nvPr/>
        </p:nvPicPr>
        <p:blipFill>
          <a:blip r:embed="rId2"/>
          <a:stretch/>
        </p:blipFill>
        <p:spPr>
          <a:xfrm>
            <a:off x="1714680" y="3713040"/>
            <a:ext cx="368424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eting Logis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ter Setup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ing the break and time prior to rece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nch Thursday and Friday at La Fon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 Partners Since July 20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nter for Spatial Analysis, University of Oklahoma (Type II - Researc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ty of Chicago (Type III - Applica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ONE (University of New Mexico) (Type I - Data Cen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tion Technology and Systems Center (ITSC) (Type II - Researc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ional Earth Science Teachers Association (NESTA) (Type III - Applica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ional Ecological Observatory Network (NEON) (Type I - Data Cen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r Applications Under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ata Conservancy (DC) (Type I - Data Cent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opical Ecology Assessment and Monitoring (TEAM) Network (Type II - Resear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izona Geological Survey (Type II - Resear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zone and Atmospheric Quality Processing Team, NASA Goddard Space Flight Center (Type II – Resear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dent Fello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leg Aulov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versity of Maryland, Baltimore County (Data &amp; Information Qualit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rent Maddux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versity of Wisconsin, Madison (Data Preserv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Yasmin Zaerpoor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lumbia University    (Energy &amp; Clim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sse Rober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versity of Wisconsin, Madison    (Educ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omas Narock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versity of Maryland, Baltimore County    (Semantic We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ric Rozel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PI (Discover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tish Menon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TB    (Air Quality [Participates remotely]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gs and Other Announc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merging Networks Map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eating throughout the meeting, beginning at the poster session. It will be set up for the poster session and the remainder of the meeting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imate Literacy and Energy Awareness Network (CLEAN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oking for expert reviewers of climate and energy curricula (See Tamara Ledley – table next to registration desk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lease take a look at proposed Bylaws changes document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reakouts on Thursday and Frid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unding Friday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ree $5K awards to be given o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lk to Carol or Erin if you need more 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SIP Strategic Plan Mid-cou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eat held June 2011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 leadership and addition membership repres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fessional facilit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als of the retr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us che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ssage focu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on plan for remaining 2+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info see sheet in packet and pos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eting Theme – Data Qu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2011-07-10_10-19-42_423.jpg"/>
          <p:cNvPicPr/>
          <p:nvPr/>
        </p:nvPicPr>
        <p:blipFill>
          <a:blip r:embed="rId1"/>
          <a:stretch/>
        </p:blipFill>
        <p:spPr>
          <a:xfrm>
            <a:off x="1195560" y="1506600"/>
            <a:ext cx="6765840" cy="3814560"/>
          </a:xfrm>
          <a:prstGeom prst="rect">
            <a:avLst/>
          </a:prstGeom>
          <a:ln w="0">
            <a:noFill/>
          </a:ln>
        </p:spPr>
      </p:pic>
      <p:sp>
        <p:nvSpPr>
          <p:cNvPr id="158" name="Content Placeholder 2"/>
          <p:cNvSpPr/>
          <p:nvPr/>
        </p:nvSpPr>
        <p:spPr>
          <a:xfrm>
            <a:off x="3263760" y="2289240"/>
            <a:ext cx="260208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Calibri"/>
              </a:rPr>
              <a:t>6σ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Macintosh HD:private:var:folders:lx:lxEJ2tiJHbeAz1cW8IrAjE+++TI:-Tmp-:TemporaryItems:661A15F8.mp4" descr=""/>
          <p:cNvPicPr/>
          <p:nvPr/>
        </p:nvPicPr>
        <p:blipFill>
          <a:blip r:embed="rId2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160" name="Content Placeholder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quality is not a my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 related to the instr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gathered the data and w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algorithms to enhance, re-analyze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‘data’ live on even though there are recognized flaws/limi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8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12:45:25Z</dcterms:created>
  <dc:creator>W. Christopher Lenhardt</dc:creator>
  <dc:description/>
  <dc:language>en-US</dc:language>
  <cp:lastModifiedBy>Carol Meyer</cp:lastModifiedBy>
  <dcterms:modified xsi:type="dcterms:W3CDTF">2011-07-18T12:46:00Z</dcterms:modified>
  <cp:revision>29</cp:revision>
  <dc:subject/>
  <dc:title>ESIP Federation 2011 Summer Meeting</dc:title>
</cp:coreProperties>
</file>